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D9C-E69C-4A50-8664-F929FBAF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2B9-4812-4D45-9F66-B4200CF2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494-A056-44BB-A64E-2B354395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D79-1CC5-433E-BD06-B8F06D8E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B5B-07DD-46D9-9B74-04B0F321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204-8041-46AD-95FA-32D26439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EBD-4516-4D9F-9ACC-8F69CDC8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579-494E-4ADB-ABEA-C1C2E207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776-A1B5-4BAC-9FD0-E67E1AE3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C45-0F20-4832-8C79-6DE5DA7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CBE-03AE-462A-926C-C9781651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308-0785-49D4-93D9-BAEA7B3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51B7-0C74-4467-AFC1-1F1FCF46C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ce Valu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45.89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ee hundred forty-five and eight hundred ninety-s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440" y="3048120"/>
            <a:ext cx="309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53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ee and fifty-si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533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2040" y="220968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00000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igh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609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6640" y="213372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llio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51055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75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417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35053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6760" y="3505320"/>
            <a:ext cx="16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9876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2743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ne hundred eighty-seven thousand six hundred twel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9920" y="419112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llio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57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95280"/>
            <a:ext cx="3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05120"/>
            <a:ext cx="18396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89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ight hundred ninety-o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360" y="4724280"/>
            <a:ext cx="309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1600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nety-f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1680" y="388620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34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600" y="3123720"/>
            <a:ext cx="87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ee thousand four hundred fifty-s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886200"/>
            <a:ext cx="399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 thousan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1600200"/>
            <a:ext cx="3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133720"/>
            <a:ext cx="18432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81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0800" y="3733920"/>
            <a:ext cx="16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8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ighty-s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3960" y="243828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elve and f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7480" y="2743200"/>
            <a:ext cx="16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0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3:12:53Z</dcterms:created>
  <dc:creator>Dekalb County School</dc:creator>
  <dc:description/>
  <dc:language>en-US</dc:language>
  <cp:lastModifiedBy>Dekalb County School</cp:lastModifiedBy>
  <dcterms:modified xsi:type="dcterms:W3CDTF">2012-04-04T05:11:54Z</dcterms:modified>
  <cp:revision>11</cp:revision>
  <dc:subject/>
  <dc:title>Place Value Game</dc:title>
</cp:coreProperties>
</file>